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0B72-DA01-4D07-A156-40156669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22A-E40A-42E2-B1B6-BC6545C8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5F985-C4B3-4961-963A-0115CEFC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8714C-686F-4151-96E3-6C26363F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1B63F-AFBD-412D-9C66-9F3E624C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B038B-0327-4472-95F6-533FAB1E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5BDB2-650B-4B5A-94E7-89C5C3D7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CDE6D-A0F8-44B2-86AE-7D0EC5C9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CBDE2-A544-4288-8AF3-AF83E684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D6B45-A0D2-4A15-BAE5-FDDA4C7B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5F565-E1B9-4723-9C5D-4B52D95D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FBA43-405C-493A-909B-93D07C3F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E63-FCB6-409C-BE6B-645B9FB1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A2102-432C-4EDF-86D6-816C3532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FF6D4-CA14-4368-BD60-42963319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0CCB8-ECB7-4303-8709-D0F12541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768FD-3DDF-429F-B47B-9BCBB3DC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64998-8263-4F60-9DE4-FBE9B789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B70B6-0D2F-4D60-B0BA-FC744489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F26E3-074E-41D1-A330-954204E7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64018-8AFB-4AD5-9CD4-BB102298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BE3B5-0E81-44A4-B101-07F3D623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51973-9E2E-474D-B424-290E08C7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AD5-63AE-4D2B-9B2C-506CD005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053C2-A684-4C86-9A40-F44AAE6B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95420-1A5D-44F7-BDF2-90FFDAF3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5FD13-14CE-4BB8-A343-E9CE5132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BE97A-83E4-482E-A019-F319D236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563E8-E120-462A-A2F7-23562927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3C317-2207-475A-BD11-8FA701F8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6C0C3-186B-4C87-8F32-24B8962A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01D65-3A53-473D-82F2-1399C024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A0C7D-19F6-403A-82EF-C3DC9322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E3B48-566B-48BA-8A39-27DFEF4E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9AB2-A284-4A15-9C18-831124A8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E7ACE-3750-46D1-A26C-0D130D40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77A2B-EBF4-4FBF-A207-2E63BB2C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75916-3F99-4908-BE70-C2E73740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876D8-1871-445B-95A4-92DF68BE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BFA70-133E-4CFF-B731-22096469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ECDE3-8523-43D4-82C3-4BEE64BC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15ED5-AC50-4097-B252-AE94ED48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8E3FB-84A1-4E02-9A03-C1CFC2D4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71FB7-336D-47E0-93D6-ADC7D407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6101E-8D5C-4728-B016-DFBAFE52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97DF-7E51-4FB2-AAEF-DC30E5D2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D3727-C42C-45E6-8066-94C7B3DD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08433-8E16-4820-993C-80948EA3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C30BE-5CFC-4607-AFB5-2F154649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005CA-33E8-43F0-8F75-1EA2E884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C20AC-17F3-4DDF-A47A-FD8731C5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059EAB-2209-48B0-9C51-51A0DF87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DA6CDA-8832-45CC-AC45-31069A27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377AF-DC03-43E4-88BC-03EB6B6F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5AF0B8-39A3-4B9A-AFE0-F4164033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DE1948-7FC6-42A2-80F6-A3E2F1FB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8AEB-1210-4F9C-B3B2-04529149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46085-55A2-4DDC-A9A1-936E3499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3FBFB-94EF-4B72-B65B-2EF2D6E6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6EB771-9C71-4BBF-9BEA-8F3FF69E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9E1C7-8F62-432A-8618-98AFCECE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AE0DF7-534C-4039-9C12-D3B92AF0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00F02-4004-44F6-AC5B-0C53A7D8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F2EB5-B77E-4929-B50B-EF742F3E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C78EFD-1BE5-47CB-BD44-9AA0B480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2077D4-CB25-406B-A962-ABE0CBB6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5BE8B1-995C-47C4-8BC1-392CBB94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6242-30D3-431E-8B91-D165CE3E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3F76DE-1B68-402E-B43D-A7181AE2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A38355-F780-4425-8FDA-1BF8F691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9A7DA6-E24B-4027-B709-0900DDFE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CF5DF-47F4-4231-AD6E-6AF22039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A6763-3AC1-432D-913F-9B8D18AC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33B8C-6C10-44E4-ACF4-D7A4AB4E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1B06D2-26A9-42C7-AFF6-5A4AC635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BEC845-A0B4-423A-A78E-FD4E994E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229B9-509D-4F4B-BECD-26B669BA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CB589-A484-44C2-9FA8-153D4EE4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BEF2-847B-4746-999E-BC88418F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D51997-2712-420A-9A85-B252FD52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E28940-B9D5-4FC4-9E1A-AC3E439C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D10DF3-E0AF-4141-B94F-E4670D03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4683EB-2FE3-42C4-A837-65D6BAA3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113103-DD32-4C06-A513-7220329B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AA7222-6517-4D5C-976B-B397AD37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FEC82-EFA0-4B7D-960B-031D0F41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5975E6-782C-407E-8AD0-D5F75801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A85CAB-419E-4AC4-9C5E-4001EE54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CE6D2-CB6E-4D19-B92C-F2BC8AF6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89FE-968B-49E7-8954-00006EB9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81DD49-00E0-4220-9597-9ACA6D8A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4FE8DC-9D6B-4395-8FEF-DD64EF2A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3847D3-561E-4AB7-831E-72D1A4B0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7D01F5-4C3F-4281-8C56-AA72CDBC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F37942-3EC7-48A8-90D8-65B9AE26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E8D64-45D6-4DE5-AF03-F4E244A8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196F7A-CD17-4364-B42D-BFCEA2F7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FE0468-35ED-4DE3-B011-A2857AE6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6FEABC-B7D0-4AA9-A468-C9D1AF81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619C38-1782-45F8-AA8E-8C4BF34C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3623-A28C-42BD-815E-34DE9338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AACBC2-86C0-406F-AAE8-22DF21E7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B0D2EA-29D2-44B9-9740-C72B9694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25C370-42B6-42F2-A060-137309A3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73673F-59C8-4B8E-AC30-CA2F342E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31A5B5-4826-4311-9BFC-BA64621A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D271DE-8682-4ECE-864D-4D070049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A05270-5300-419C-B2EE-A8D0ED07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0B0435-84FC-42D5-8458-A3A9C8F8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CA56E5-0764-4363-85AB-2D03525F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F9978F-0A4C-46F4-925C-A6CF9DBC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B2B-931B-4A17-B542-7B26A5B1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F37F-1ABD-4217-AC22-88C71409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039EFB-F145-43C6-9824-2F9F6BDF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BD65FF-5893-4F5B-B505-7F118EE2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918424-77E9-437C-B372-0EDD0096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E9C467-54C2-414D-AE80-4363550D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AE778F-A23C-448C-B2A4-90A696DA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38D842-E3AC-4C4F-BD8F-4A07E9CE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163353-8B17-4DA7-B7D4-CC7C0FF9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8C636F-4B37-46CA-B62D-98C2AA39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38C1C1-A779-4FE0-B456-0FDA3EFC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D9F4F6-74DA-42F8-8431-77A748A3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92D5-5006-47BC-8F93-B38AE14E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35E597-D9DF-41F2-995B-58D6A6F3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2D9387-E8AC-44F3-B5C0-B754AF82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27E33B-D835-46DE-A2F9-24AA68BB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42F8DD-6C27-4DCC-8C4F-1B784F8B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D6EEDB-A5D7-4767-8EE1-98994DBC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DE7699-8F62-4B66-B24D-CB75650C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DC1E52-08B3-4FD8-AFB6-4298DAE7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43CDBA-FF68-4786-930E-709A0FFB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8016FE-ABE9-4CED-AB3F-46BCD191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6F8C53-6B96-4B33-BCAB-BBBC05EF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3EF9-9937-4490-8E34-EDC0675E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8BA231-EBE3-4B16-A9AB-2DEA3096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75C94E-DB94-4807-8252-3526457D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1349CB-B397-4636-B812-2616E86C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694077-9620-4C58-AE02-7D96DEB6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22BD23-701A-4944-A322-D37E386A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FA5C82-08E8-46F8-9524-721B8DAE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16999D-72BB-4686-AB16-37EDFD95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AC1ADD-2F69-4802-86C8-B8171D40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3066B2-CA02-418A-B6B9-17BF2DF4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A5E27B-86D9-4AFD-9147-AFE565E1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71D0-C517-4200-BFF7-6E3A29FF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66D824-249E-456C-9A1C-A360F375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C34CB7-3126-4B37-A201-227704C1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1A10B6-91E1-48FB-A53C-92EC3406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5B18E5-B957-48B7-B8E8-51893BA0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D99044-DEF2-4F30-B392-44BB1AA0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C543C7-F738-4885-9F89-755FDE4B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AA5751-D252-41D3-A4B4-8B7F6EF8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5BD49C-A7B5-43ED-BEDC-6BC399B6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27AFB0-B5BD-4652-A9B6-17029A16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89BFD0-F23E-4E70-A57D-D624EB47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D1B1-3D3F-42A1-93AF-D0023BEB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5A1AF3-E4C8-436D-ABA1-F066660E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822A4C-7FD1-4E73-9740-1BCE33A0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D7FA07-A095-4992-831A-A0ACFC3B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C60660-6DD6-41EE-B44B-914808B5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F50E78-E10E-46AF-89C7-B288B906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A052F3-34D8-4E7F-A231-F5FD422A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B76F0A-92A6-46E6-ACE0-46246910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8631A3-5A37-4B8B-997A-76429510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07E80E-EE6E-45C0-A4CC-A66A06A7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E0F821-876B-42D2-82B3-CDEEBEFE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81D58-4E10-442B-9ED5-00C48D95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86F738-7ADD-42DB-B80D-B132C896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D660C0-B51D-48DA-8DD6-92C6AE89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39607E-8EBB-4539-9A8B-9974BFC0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669B3-0C30-4A69-9282-09CDC8FA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8874F-F097-4355-84AC-E746B303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F70B2-29A9-4A05-AFAA-034D1C9F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FA2A6-B9E7-48DE-A477-90919C4F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03F3-7A38-4A0B-A662-D4D06629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3FF48-7740-4277-9AA5-A91B66E4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69E7F-A071-46FB-9948-DF80F46E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E6D2F-25B2-4E7D-8187-9DE6C311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34CC3-4B62-42BA-8DA0-AD0C25E5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8C87E-7A42-46C3-9BA7-1ACAC750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4B65-74A9-4BEF-9975-B774F3B8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F9929-E276-4329-8495-9A0688B8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CDB2A-CFBA-497F-ABED-D321E58A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5A242-A9AE-4EEC-A48B-8608A0DA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4B7B5-67E0-4271-828C-013ED11F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CAA6-47FC-427F-B827-AEA9E3AC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F6D7C-056C-4D87-B253-4FC35C9E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466E9-5462-4D7E-A7D0-5555AC1B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3DA83-B351-4346-AF5B-DC6187A2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176AA-BBF3-4F35-92B9-9E7D88C1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21985-0822-4E14-8725-0968894D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28BE6-3487-4742-912D-D1C09DFE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9B9BA-1128-406C-B29C-3A0E7AC9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9C70B-B67D-409F-8955-0B315BD9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8EFFB-06F6-42B4-B44B-B75CADD6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DF41A-D299-4CA7-AC1C-8C5D6FF4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B46-E7A3-4507-A5A0-37DEE845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F36C8-69DC-4D5C-956E-63B61C24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E8D67-17E1-4E53-A187-0B8B345A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41CBE-C8E1-4D7A-9E04-E49D66CC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1732C-8F5F-481A-BAF5-395512DA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EC60C-6F82-4BE0-B962-CFE615A9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ADBBD-D0BF-46A9-B77C-031DC8A6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430C2-AA13-4355-8C22-89C9DFDE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4A482-F6EC-428E-8E67-32CF5CE4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74C24-D80A-4C64-805F-F3F632A2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7E62F-3E22-4108-9D2D-43D0C89A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FD0-012E-4685-AEF5-735C101B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51C97-AE94-4012-93CF-1A373408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4E4EF-8A89-48E8-8DCC-B3C66897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99DF7-A2EA-4CDE-8A0C-72AADA3A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1008A-4463-4A01-B549-FFCDEBD0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F0B9B-3C84-4A76-8747-E71FEA61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5EBBD-2956-488D-B6FF-2BF1A83B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6782E-033B-4812-95CC-2A92050F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F10BE-0CD9-4A3E-A9BE-78E2D863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D132C-50C0-4F3A-8878-5FD3AD7F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93353-A2FE-436B-A503-31D57738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25D-12FE-4B94-86E1-3B7D00B3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AA13C-5C8F-40F7-90E2-6B21F83E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25808-F122-4925-B402-B0D3130A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8AF2B-0AC9-4FC3-A7FC-6EC1C8C2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53E41-FBE4-4E0E-B11F-9D48E4AB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DD993-F35D-4EDB-B4D0-4BDDCDAC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DA081-840D-48FD-B097-C231DD9B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838D5-AD2D-4DE5-A1D7-7473F927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0C95D-DFCF-4F3C-8B72-79ED5223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919FC-FB66-4991-92BE-99F54ED1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D07D9-D29F-476A-BDE5-41D1D44B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775-445A-4DCE-9608-BEDABD04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3BDAF-5C91-46FB-A64C-B2DD8348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D8E9C-04EE-4D11-A8C5-84999D9C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3E8ED-C200-4303-8A5C-E5DADD56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AEF4D-04E0-4BD8-A1D6-7BE13C1E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40039-B988-4E0C-816F-6FD21F36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A08C9-8840-44AA-A25C-E44B1A11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BE32A-4124-438D-BCC2-02185E16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E8CF1-C538-4EEB-87BC-694D9B00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EFC2C-2814-4041-BF4A-9857D85F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1B761-C900-4819-9A5D-0BE77C8C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E92-3DD7-410E-8756-67B8C41B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9E727-8F68-451B-BA4E-813DAF9A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D1267-22AE-4AD9-AACD-A7609479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438CA-50F5-4D3B-A4DE-71FE6BD9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9DA51-0ACC-4F14-9EC9-7468CA9B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414F5-78FF-4003-9C46-72C8D329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574B2-5A88-4E58-B3FD-F9A57358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7902A-66BA-4297-A10C-E3D6EB09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CF4E0-1540-4367-A537-5E7D1866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F8F5A-ABD1-417E-8A56-CC21F442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AF33F-7594-4400-B8FE-9A35B0A6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7D03-0FB9-4008-89FB-F1B1EFD3D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5C24-F0AD-4DDA-8479-E08D48B812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DC37-DB6F-495B-9A88-D4DC3DF52C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33D3-DEE4-4F86-85BC-28F0399A8C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A2CA-F099-4E52-A9D1-F03AD283A7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DE79-83E7-48AF-B53D-2A1009C823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3F20-B431-4557-AD0F-78669893D1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E56B-4AF3-4F80-BDCA-74CC23375C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AB15-03A1-4E55-B687-6784FBA1BC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F46E-7CFE-45D1-8741-9E0EFE494F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107D-2C48-4AE4-B7C7-848C1ED1DD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5E81-21AD-4A1A-9A52-B5012C5A2A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81CC-7BFD-4DC1-811F-A6FA938B68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6FC4-0A73-4640-A235-D2012CD6AC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6ABB-2009-46DE-9E04-3B02D90007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2E06-3A55-4B28-B171-FCC9145E73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0497-1DC5-4E98-BF14-F6B3FED5DD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7613-F32A-4041-9871-D636415D30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144A-17A9-4C7D-A504-54342D7ACB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8C4F-6796-4B79-A725-DFAA2264EB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E1B6-C0DA-4856-89FC-333E3D0CCE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4983-1FE5-4E92-A879-C420A40553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A052-AAAC-4279-846B-9BA3087D00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C373-CCE2-4175-BC55-39688DDE30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EA03-D267-43C5-A838-90C9D2BACE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8107-AB4D-4948-BF97-4270291371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AFEA-3526-491A-B895-50378550DE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5236-0B17-4A84-ACAF-648CD50B7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396C-FBC0-4DF2-A858-B33961A737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D335-46FE-4C81-8032-1D9155F3DD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7F0C-CF5B-4A72-8738-4DD311B5D6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1A12-442E-4DE3-9903-8F0EBC332C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72AB-7FD9-42A9-875E-CBE50BD987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9992-B2D8-48E3-9B70-5B65B12FCB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8E90-5C5F-4213-9D84-C9041FE222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DB7C-40BD-4805-8147-E63BAA9D61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9CEC-4AC4-4B3E-983F-0CD33E12CB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2A1A-5958-4749-A356-CE6F224840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3DBE-E758-42C0-B889-9F9F290B4A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C942-1934-449A-A877-D1B53433AF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190600" y="3086280"/>
            <a:ext cx="4762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95280" y="2295360"/>
            <a:ext cx="8352000" cy="2267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187280" y="270828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68560" y="31068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187280" y="350028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187280" y="386064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187280" y="4230720"/>
            <a:ext cx="28764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38160" y="1793880"/>
            <a:ext cx="9066240" cy="32702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684360" y="29242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68436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684360" y="4365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47520" y="2576520"/>
            <a:ext cx="9048960" cy="17049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6372360" y="4005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2771640" y="4005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8172360" y="40258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1042920" y="4005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4572000" y="3995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128520" y="2266920"/>
            <a:ext cx="8885160" cy="23241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826920" y="2708280"/>
            <a:ext cx="360360" cy="249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826920" y="3094200"/>
            <a:ext cx="360360" cy="249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826920" y="3481560"/>
            <a:ext cx="360360" cy="249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826920" y="3851280"/>
            <a:ext cx="360360" cy="249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898560" y="4221000"/>
            <a:ext cx="360360" cy="2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3:55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